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ffd4"/>
                </a:solidFill>
                <a:latin typeface="Chalkboard"/>
              </a:rPr>
              <a:t>CLEOPATRA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"/>
          <p:cNvSpPr/>
          <p:nvPr/>
        </p:nvSpPr>
        <p:spPr>
          <a:xfrm>
            <a:off x="1585800" y="4813200"/>
            <a:ext cx="70358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8ff"/>
                </a:solidFill>
                <a:latin typeface="Chalkboard"/>
                <a:ea typeface="Chalkboard"/>
              </a:rPr>
              <a:t>HECHO POR:FELIX LEWIS AYESTA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8478720" y="5460840"/>
            <a:ext cx="279396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548"/>
                </a:solidFill>
                <a:latin typeface="Chalkboard"/>
              </a:rPr>
              <a:t>LA VIDA DE CLEOPATRA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Murió el 12 de Agosto antes de Cristo.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Su país , Egipto , estaba muy cercade rio Nilo , el más grande e importante del continente africano.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269720" y="1244520"/>
            <a:ext cx="10464840" cy="745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401"/>
                </a:solidFill>
                <a:latin typeface="Chalkboard"/>
              </a:rPr>
              <a:t>Fue la última reina del antiguo Egipto.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401"/>
                </a:solidFill>
                <a:latin typeface="Chalkboard"/>
              </a:rPr>
              <a:t>Se puede ver su momia en el British museum.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269720" y="417816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.El padre de Cleopatra murió y ella tomó su trono cuando soló tenía 17 añ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8229600" y="127080"/>
            <a:ext cx="439416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416400" y="203040"/>
            <a:ext cx="6540480" cy="40798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1028880" y="4686480"/>
            <a:ext cx="3695400" cy="3797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5191200" y="4686480"/>
            <a:ext cx="7500960" cy="455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